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549-14CC-4526-B769-83F67B63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D43-2D5A-44C6-81FB-90C4D72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DF2-FB19-45A5-B698-239A5612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111-C5C1-410C-A359-A3E7117B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6A2-4224-45D8-9681-EE048867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531-7C22-465C-B07E-508C9396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BF6-6C85-4B8F-B0D7-086CFD30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FC5-644F-46A7-98C3-9C259A8F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F83-2A68-499A-9C3D-823EC9B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A0E-0308-426F-B6E3-0B99236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944-4ABD-46DD-8792-581E40F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274-D86D-4B3E-86F5-036D5BE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02C8-D633-4405-8A7F-61DB9678E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/Impact Matri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6920" y="1338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97200" y="6062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rot="16200000">
            <a:off x="-698760" y="2905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4280" y="46483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240" y="3505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1320" y="1752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88040" y="560556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14760" y="56386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94440" y="56055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666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172200" y="13712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886200" y="13712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1148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5638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2952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8077320" y="1294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59840" y="1447920"/>
            <a:ext cx="9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2400" y="14479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26120" y="14479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22880" y="2895480"/>
            <a:ext cx="11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2400" y="2895480"/>
            <a:ext cx="9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2880" y="4267080"/>
            <a:ext cx="11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56600" y="4343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2:32:01Z</dcterms:created>
  <dc:creator>IT Department</dc:creator>
  <dc:description/>
  <dc:language>en-US</dc:language>
  <cp:lastModifiedBy>schwalbe</cp:lastModifiedBy>
  <dcterms:modified xsi:type="dcterms:W3CDTF">2005-10-14T18:48:56Z</dcterms:modified>
  <cp:revision>11</cp:revision>
  <dc:subject/>
  <dc:title>Figure 10-3. Probability/Impact Matrix</dc:title>
</cp:coreProperties>
</file>